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ADA-D474-4AF1-94C7-A67C28BD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144-334F-426A-86E3-67BF329A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566-7018-45FF-A463-9958CD39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0B9-B14F-4A01-8D64-571F0DD9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8F8-A462-444E-8051-B179339A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775-A40A-431D-8D00-6F539796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20B-0A8F-4B11-9623-FED5940F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7D5-68FE-4511-A807-2D84592E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766-474D-4EAB-B032-81EB60E4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650-446A-4CF2-B338-1BE371EC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73C-B039-4A91-A2EC-32B9C50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136-B405-48DB-B73E-3745EA1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69C0-1795-4CDB-A9E4-108CE3DD9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vi Bl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295280" y="1219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http://t2.gstatic.com/images?q=tbn:ANd9GcRemqWyHv1g6eFvxAV2xOaWohOK4LfZqOPHNT_4hk9-7uYpZiN3"/>
          <p:cNvPicPr/>
          <p:nvPr/>
        </p:nvPicPr>
        <p:blipFill>
          <a:blip r:embed="rId1"/>
          <a:stretch/>
        </p:blipFill>
        <p:spPr>
          <a:xfrm>
            <a:off x="762120" y="2119320"/>
            <a:ext cx="56386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http://t1.gstatic.com/images?q=tbn:ANd9GcSWaNzxW1XEyhZ-cMnwsfZEMjE7_8e2KT1s0Ujke0ZJnbHWf8fT"/>
          <p:cNvPicPr/>
          <p:nvPr/>
        </p:nvPicPr>
        <p:blipFill>
          <a:blip r:embed="rId1"/>
          <a:stretch/>
        </p:blipFill>
        <p:spPr>
          <a:xfrm>
            <a:off x="2590920" y="2722680"/>
            <a:ext cx="41907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ttp://t1.gstatic.com/images?q=tbn:ANd9GcSxEObfKYuDbfhtPXGCLiG-wwDmOr_OKlDzy64yWceZ4yNOGKaUtw"/>
          <p:cNvPicPr/>
          <p:nvPr/>
        </p:nvPicPr>
        <p:blipFill>
          <a:blip r:embed="rId1"/>
          <a:stretch/>
        </p:blipFill>
        <p:spPr>
          <a:xfrm>
            <a:off x="3048120" y="2362320"/>
            <a:ext cx="434340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loponnes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t1.gstatic.com/images?q=tbn:ANd9GcRBOWdh7VLKwHk_ELsLxVBUEUk9PhQInfhWg3H0IZqS980FTEqe"/>
          <p:cNvPicPr/>
          <p:nvPr/>
        </p:nvPicPr>
        <p:blipFill>
          <a:blip r:embed="rId1"/>
          <a:stretch/>
        </p:blipFill>
        <p:spPr>
          <a:xfrm>
            <a:off x="2971800" y="1828800"/>
            <a:ext cx="4419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t3.gstatic.com/images?q=tbn:ANd9GcRBU0KbgNTMGeynISfTnTF54SOZnVwWF0BhSmplVc2QzI8YBBDj9w"/>
          <p:cNvPicPr/>
          <p:nvPr/>
        </p:nvPicPr>
        <p:blipFill>
          <a:blip r:embed="rId1"/>
          <a:stretch/>
        </p:blipFill>
        <p:spPr>
          <a:xfrm>
            <a:off x="1676520" y="2685960"/>
            <a:ext cx="3352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1828800" y="2819520"/>
            <a:ext cx="5591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http://www.greece-athens.com/gallery_images/56.jpg"/>
          <p:cNvPicPr/>
          <p:nvPr/>
        </p:nvPicPr>
        <p:blipFill>
          <a:blip r:embed="rId1"/>
          <a:stretch/>
        </p:blipFill>
        <p:spPr>
          <a:xfrm>
            <a:off x="304920" y="2133720"/>
            <a:ext cx="4933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http://www.greece-athens.com/places_images/31.jpg"/>
          <p:cNvPicPr/>
          <p:nvPr/>
        </p:nvPicPr>
        <p:blipFill>
          <a:blip r:embed="rId1"/>
          <a:stretch/>
        </p:blipFill>
        <p:spPr>
          <a:xfrm>
            <a:off x="1371600" y="1905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 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www.cusdi.org/images/pnyx.jpg"/>
          <p:cNvPicPr/>
          <p:nvPr/>
        </p:nvPicPr>
        <p:blipFill>
          <a:blip r:embed="rId1"/>
          <a:stretch/>
        </p:blipFill>
        <p:spPr>
          <a:xfrm>
            <a:off x="4114800" y="2590920"/>
            <a:ext cx="473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0" y="2514600"/>
            <a:ext cx="1832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429000" y="228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143000" y="14479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t3.gstatic.com/images?q=tbn:ANd9GcT3p8XOJlbAgiKL2sXXZgweSWNWOT4jzOixPM4JOaR3GY8YhaZfsA"/>
          <p:cNvPicPr/>
          <p:nvPr/>
        </p:nvPicPr>
        <p:blipFill>
          <a:blip r:embed="rId1"/>
          <a:stretch/>
        </p:blipFill>
        <p:spPr>
          <a:xfrm>
            <a:off x="3200400" y="2514600"/>
            <a:ext cx="4114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895480" y="3808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1143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t1.gstatic.com/images?q=tbn:ANd9GcRAql_D7GSSFXfVjtoPeMQVNg7f76VFzdzSSAqOtuOsOoE_4weo4g"/>
          <p:cNvPicPr/>
          <p:nvPr/>
        </p:nvPicPr>
        <p:blipFill>
          <a:blip r:embed="rId1"/>
          <a:stretch/>
        </p:blipFill>
        <p:spPr>
          <a:xfrm>
            <a:off x="914400" y="2166840"/>
            <a:ext cx="60958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523880" y="11430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t2.gstatic.com/images?q=tbn:ANd9GcTmeL0E28VcBspRNjiAaFSiOHjbB9XucQYUw3c9-0ib9VHRpsHO"/>
          <p:cNvPicPr/>
          <p:nvPr/>
        </p:nvPicPr>
        <p:blipFill>
          <a:blip r:embed="rId1"/>
          <a:stretch/>
        </p:blipFill>
        <p:spPr>
          <a:xfrm>
            <a:off x="304920" y="2598840"/>
            <a:ext cx="4952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523880" y="1143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://t2.gstatic.com/images?q=tbn:ANd9GcQSaST7n5kt7e55a1PSmx4XhXjU_sWZsQsTdra1aHp77ppF-x_z"/>
          <p:cNvPicPr/>
          <p:nvPr/>
        </p:nvPicPr>
        <p:blipFill>
          <a:blip r:embed="rId1"/>
          <a:stretch/>
        </p:blipFill>
        <p:spPr>
          <a:xfrm>
            <a:off x="2666880" y="2514600"/>
            <a:ext cx="51246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0:49:41Z</dcterms:modified>
  <cp:revision>100</cp:revision>
  <dc:subject/>
  <dc:title>Ancient Greece</dc:title>
</cp:coreProperties>
</file>